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B38B-55EF-4EC0-BFBE-9E2BAB93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466-80E2-4CD9-9D1A-AC050451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938-4B8E-469F-B9E0-37522572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E40F-BB8A-447E-8BBB-CCD6CD3C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8ED-E2D9-4839-9E15-5B23B5AF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324-F1A2-489D-A3A3-F234B1CE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B56-D8B9-44A4-A8AF-CFCF9A6C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0B2C-191B-4845-B52A-77CF77D1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501-6947-4AC7-9683-47126508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367-47A1-4F7A-890B-A9BB5E56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91A-7C54-43BE-BEDC-E1C66F5E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6DE-369B-4C81-AE0A-28333B03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56BF-C91E-4A3A-95A3-E3E9ABBAE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2920" y="27000"/>
            <a:ext cx="889308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2160">
                  <a:solidFill>
                    <a:srgbClr val="ffff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Ravie"/>
              </a:rPr>
              <a:t>jack</a:t>
            </a:r>
            <a:endParaRPr b="1" lang="en-US" sz="1800" spc="1" strike="noStrike">
              <a:ln w="92160">
                <a:solidFill>
                  <a:srgbClr val="ffff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Ravie"/>
              <a:ea typeface="Ravi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11280" y="907920"/>
            <a:ext cx="820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333360"/>
            <a:ext cx="7488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My favourite sport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Wakebo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Soc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Kneebo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404640"/>
            <a:ext cx="8748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If you type jack on Google it comes up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Hungry j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Jack Dani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Jack Johnson (sin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836640"/>
            <a:ext cx="860436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My favourite food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Lasa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Choc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Dim – s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Ice-c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sknees ITC"/>
              </a:rPr>
              <a:t>Ma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23:14:41Z</dcterms:created>
  <dc:creator>Admin</dc:creator>
  <dc:description/>
  <dc:language>en-US</dc:language>
  <cp:lastModifiedBy>Admin</cp:lastModifiedBy>
  <dcterms:modified xsi:type="dcterms:W3CDTF">2009-02-08T23:24:00Z</dcterms:modified>
  <cp:revision>2</cp:revision>
  <dc:subject/>
  <dc:title>Slide 1</dc:title>
</cp:coreProperties>
</file>